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83AF-B953-44C5-BAAA-3D47BF9E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41EA-5248-49AD-8728-B06C221F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A759-0D15-42C7-98B7-A2D924D13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B8CF-E58E-4640-8704-2C47DC230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180B-D0BB-43EF-9BEF-5E9DB6E7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FF16-C5AB-4BB0-8AFE-99BDC987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473B-1F6F-4C4D-A869-A1C35360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1F21-AEA0-4A44-9E88-E1EBBB69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65D8-40A8-430B-B164-B65516DB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F94A-7D42-4AE1-94DA-422522FD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6AA4-CBED-42E0-B73D-37BCD471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8E3F-97A0-452D-981A-90E42122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DBE8-5010-4FE0-9E8D-EB63EC2CB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227160" y="187200"/>
            <a:ext cx="9119880" cy="6670440"/>
            <a:chOff x="-227160" y="187200"/>
            <a:chExt cx="9119880" cy="6670440"/>
          </a:xfrm>
        </p:grpSpPr>
        <p:cxnSp>
          <p:nvCxnSpPr>
            <p:cNvPr id="42" name="_s2059"/>
            <p:cNvCxnSpPr>
              <a:stCxn id="43" idx="1"/>
              <a:endCxn id="44" idx="2"/>
            </p:cNvCxnSpPr>
            <p:nvPr/>
          </p:nvCxnSpPr>
          <p:spPr>
            <a:xfrm rot="10800000">
              <a:off x="6670440" y="5428080"/>
              <a:ext cx="317880" cy="95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" name="_s2060"/>
            <p:cNvCxnSpPr>
              <a:stCxn id="44" idx="1"/>
              <a:endCxn id="46" idx="2"/>
            </p:cNvCxnSpPr>
            <p:nvPr/>
          </p:nvCxnSpPr>
          <p:spPr>
            <a:xfrm rot="10800000">
              <a:off x="5400000" y="3998160"/>
              <a:ext cx="318240" cy="954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" name="_s2061"/>
            <p:cNvCxnSpPr>
              <a:stCxn id="46" idx="0"/>
              <a:endCxn id="48" idx="2"/>
            </p:cNvCxnSpPr>
            <p:nvPr/>
          </p:nvCxnSpPr>
          <p:spPr>
            <a:xfrm flipV="1" rot="16200000">
              <a:off x="5161680" y="2806920"/>
              <a:ext cx="477360" cy="1080"/>
            </a:xfrm>
            <a:prstGeom prst="bentConnector3">
              <a:avLst>
                <a:gd name="adj1" fmla="val 668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" name="_s2062"/>
            <p:cNvCxnSpPr>
              <a:stCxn id="50" idx="0"/>
              <a:endCxn id="51" idx="2"/>
            </p:cNvCxnSpPr>
            <p:nvPr/>
          </p:nvCxnSpPr>
          <p:spPr>
            <a:xfrm flipV="1" rot="16200000">
              <a:off x="2937960" y="2806920"/>
              <a:ext cx="477360" cy="720"/>
            </a:xfrm>
            <a:prstGeom prst="bentConnector3">
              <a:avLst>
                <a:gd name="adj1" fmla="val 668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2063"/>
            <p:cNvCxnSpPr>
              <a:stCxn id="53" idx="0"/>
              <a:endCxn id="54" idx="2"/>
            </p:cNvCxnSpPr>
            <p:nvPr/>
          </p:nvCxnSpPr>
          <p:spPr>
            <a:xfrm flipV="1" rot="16200000">
              <a:off x="714240" y="2806920"/>
              <a:ext cx="477360" cy="720"/>
            </a:xfrm>
            <a:prstGeom prst="bentConnector3">
              <a:avLst>
                <a:gd name="adj1" fmla="val 668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2064"/>
            <p:cNvCxnSpPr>
              <a:stCxn id="48" idx="0"/>
              <a:endCxn id="56" idx="2"/>
            </p:cNvCxnSpPr>
            <p:nvPr/>
          </p:nvCxnSpPr>
          <p:spPr>
            <a:xfrm flipV="1" rot="16200000">
              <a:off x="4049640" y="266040"/>
              <a:ext cx="477360" cy="2223720"/>
            </a:xfrm>
            <a:prstGeom prst="bentConnector5">
              <a:avLst>
                <a:gd name="adj1" fmla="val 81433"/>
                <a:gd name="adj2" fmla="val -60330"/>
                <a:gd name="adj3" fmla="val -24732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2065"/>
            <p:cNvCxnSpPr>
              <a:stCxn id="51" idx="0"/>
              <a:endCxn id="56" idx="2"/>
            </p:cNvCxnSpPr>
            <p:nvPr/>
          </p:nvCxnSpPr>
          <p:spPr>
            <a:xfrm rot="16200000">
              <a:off x="2937960" y="1377720"/>
              <a:ext cx="4773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2066"/>
            <p:cNvCxnSpPr>
              <a:stCxn id="54" idx="0"/>
              <a:endCxn id="56" idx="2"/>
            </p:cNvCxnSpPr>
            <p:nvPr/>
          </p:nvCxnSpPr>
          <p:spPr>
            <a:xfrm flipH="1" flipV="1" rot="5400000">
              <a:off x="1825560" y="266040"/>
              <a:ext cx="477360" cy="2224080"/>
            </a:xfrm>
            <a:prstGeom prst="bentConnector5">
              <a:avLst>
                <a:gd name="adj1" fmla="val 81433"/>
                <a:gd name="adj2" fmla="val -53051"/>
                <a:gd name="adj3" fmla="val -24732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6" name="_s2067"/>
            <p:cNvSpPr/>
            <p:nvPr/>
          </p:nvSpPr>
          <p:spPr>
            <a:xfrm>
              <a:off x="2223720" y="187200"/>
              <a:ext cx="1905480" cy="952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Times New Roman"/>
                </a:rPr>
                <a:t>Kolonen aurkikuntz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2068"/>
            <p:cNvSpPr/>
            <p:nvPr/>
          </p:nvSpPr>
          <p:spPr>
            <a:xfrm>
              <a:off x="0" y="1616400"/>
              <a:ext cx="1905480" cy="952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Times New Roman"/>
                </a:rPr>
                <a:t>Zer aurkitu zuen?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2069"/>
            <p:cNvSpPr/>
            <p:nvPr/>
          </p:nvSpPr>
          <p:spPr>
            <a:xfrm>
              <a:off x="2223720" y="1616400"/>
              <a:ext cx="1905480" cy="952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Times New Roman"/>
                </a:rPr>
                <a:t>Noiz aurkitu zuen?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2070"/>
            <p:cNvSpPr/>
            <p:nvPr/>
          </p:nvSpPr>
          <p:spPr>
            <a:xfrm>
              <a:off x="4447080" y="1616400"/>
              <a:ext cx="1905480" cy="952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Zer zen bere benetako muga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2071"/>
            <p:cNvSpPr/>
            <p:nvPr/>
          </p:nvSpPr>
          <p:spPr>
            <a:xfrm>
              <a:off x="720" y="3045960"/>
              <a:ext cx="1904760" cy="952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s-ES" sz="2100" spc="-1" strike="noStrike">
                  <a:solidFill>
                    <a:srgbClr val="000000"/>
                  </a:solidFill>
                  <a:latin typeface="Times New Roman"/>
                </a:rPr>
                <a:t>Amerikako              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s-ES" sz="2100" spc="-1" strike="noStrike">
                  <a:solidFill>
                    <a:srgbClr val="000000"/>
                  </a:solidFill>
                  <a:latin typeface="Times New Roman"/>
                </a:rPr>
                <a:t>kontinente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2072"/>
            <p:cNvSpPr/>
            <p:nvPr/>
          </p:nvSpPr>
          <p:spPr>
            <a:xfrm>
              <a:off x="2224440" y="3045960"/>
              <a:ext cx="1904760" cy="952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92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73"/>
            <p:cNvSpPr/>
            <p:nvPr/>
          </p:nvSpPr>
          <p:spPr>
            <a:xfrm>
              <a:off x="4448160" y="3045960"/>
              <a:ext cx="1904760" cy="952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Indiara iriste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2074"/>
            <p:cNvSpPr/>
            <p:nvPr/>
          </p:nvSpPr>
          <p:spPr>
            <a:xfrm>
              <a:off x="5718240" y="4475880"/>
              <a:ext cx="1904760" cy="952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900" spc="-1" strike="noStrike">
                  <a:solidFill>
                    <a:srgbClr val="000000"/>
                  </a:solidFill>
                  <a:latin typeface="Times New Roman"/>
                </a:rPr>
                <a:t>zergatik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2075"/>
            <p:cNvSpPr/>
            <p:nvPr/>
          </p:nvSpPr>
          <p:spPr>
            <a:xfrm>
              <a:off x="6987960" y="5905440"/>
              <a:ext cx="1904760" cy="952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Times New Roman"/>
                </a:rPr>
                <a:t>Espeziak bilatzeko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-181440" y="691920"/>
            <a:ext cx="46436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u-ES" sz="2800" spc="-1" strike="noStrike">
                <a:solidFill>
                  <a:srgbClr val="000000"/>
                </a:solidFill>
                <a:latin typeface="Arial"/>
              </a:rPr>
              <a:t>Amerikaren aurkikuntza 1492ko urriaren 12an europarrek ,Kristobal Kolon buru, zegoela aurkitu zut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788000" y="189000"/>
            <a:ext cx="3744720" cy="2808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79280" y="3645000"/>
            <a:ext cx="3745080" cy="2535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0" y="3716280"/>
            <a:ext cx="374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000000"/>
                </a:solidFill>
                <a:latin typeface="Arial"/>
              </a:rPr>
              <a:t>Asiara iritsi zirela pentsatu zuten, baina Karibeko itsasoko Guanahani uhartera iritzi zi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2:12:41Z</dcterms:created>
  <dc:creator>ik015111zz</dc:creator>
  <dc:description/>
  <dc:language>en-US</dc:language>
  <cp:lastModifiedBy>ik015111zz</cp:lastModifiedBy>
  <dcterms:modified xsi:type="dcterms:W3CDTF">2012-05-17T12:48:13Z</dcterms:modified>
  <cp:revision>2</cp:revision>
  <dc:subject/>
  <dc:title>Diapositiva 1</dc:title>
</cp:coreProperties>
</file>